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B471F-9B2D-4F6F-9C09-D00CCA5DB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54454-721D-4970-ADC8-8C8DB4154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A1A4A-C558-4CA9-BFFD-8BB4F46D5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47EDF-A9C9-4713-9485-192FB03D6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55498-F77A-4DE2-9A10-550044E4C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AFD54-3F17-4046-936B-8FEFC6C4A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00D31-CFA9-4D53-9F2B-0B0305A6B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BCC15-CD52-40D2-90DD-00B2B5001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8A1F3-3B9B-4DD2-8DDA-3669D644C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CC833-C00D-4A3A-9708-C90EE6A38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465F2-25B8-473B-B864-D4EE6F05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0B746-C2AD-4F17-BD63-9EA6B6642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9BF28-8BBC-42EA-9927-00972C75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A57F8-BEA1-4534-BF1F-E60CD047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BD0EB-5159-4474-B284-55029EF7A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EF57D-07B3-48F8-949E-11B68C5E7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E24EE-02C5-4245-8CF7-65BD3F9D3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DA9F9-5016-40F6-B56D-0FB75918F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D1CAF-2F43-46B6-B914-9086D4499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B9C79-DA1E-49A6-98B8-77E9C100B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64B7F-1274-4658-A390-F53602C84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088CA-88DD-4D33-A836-8B7977B3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1A7BB-A7AA-4BC9-B591-C419A595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A7FC3-69F2-4179-870F-29D4EB46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CE029-1CE6-44EA-A3F3-E3F9D8275A6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8CECC-38E2-459B-A0FF-4FB90D8955D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Zaokrąglanie liczb</a:t>
            </a:r>
            <a:br>
              <a:rPr sz="6000"/>
            </a:b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 i szacowanie wyników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olejność wykonywania działań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             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673640" y="1519920"/>
            <a:ext cx="5376240" cy="2949480"/>
          </a:xfrm>
          <a:prstGeom prst="rect">
            <a:avLst/>
          </a:prstGeom>
          <a:solidFill>
            <a:srgbClr val="66ccff"/>
          </a:solidFill>
          <a:ln w="1584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Garamond"/>
              </a:rPr>
              <a:t>Przy zaokrąglaniu w miejsce znaku równości ( = ) używa się znaku przybliżenia ( ≈ 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                     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Jeżeli mówimy, że chcemy zaokrąglić liczbę do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części dziesiątych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, pozostawiamy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jedną cyfrę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o przecinku (po zaokrągleniu),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części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setnych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2 cyfr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o przecinku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1" lang="en-US" sz="3200" spc="-1" strike="noStrike">
                <a:solidFill>
                  <a:srgbClr val="0099cc"/>
                </a:solidFill>
                <a:latin typeface="Garamond"/>
              </a:rPr>
              <a:t>części tysięcznych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1" lang="en-US" sz="3200" spc="-1" strike="noStrike">
                <a:solidFill>
                  <a:srgbClr val="0099cc"/>
                </a:solidFill>
                <a:latin typeface="Garamond"/>
              </a:rPr>
              <a:t>3 cyfr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i tak dalej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7812000" y="5373720"/>
                <a:ext cx="107964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042920" y="51912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zęsto chcemy zaokrąglić liczbę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kreślając jej rzą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5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            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UWAGA 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627200" y="2827440"/>
            <a:ext cx="5397480" cy="20811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84360" y="1844640"/>
            <a:ext cx="777528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a886e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Zapis liczby naturalnej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             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UWAGA 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Zapis liczby w ułamku dziesiętnym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909080" y="2899080"/>
            <a:ext cx="5897880" cy="1834560"/>
            <a:chOff x="1909080" y="2899080"/>
            <a:chExt cx="5897880" cy="1834560"/>
          </a:xfrm>
        </p:grpSpPr>
        <p:sp>
          <p:nvSpPr>
            <p:cNvPr id="140" name=""/>
            <p:cNvSpPr/>
            <p:nvPr/>
          </p:nvSpPr>
          <p:spPr>
            <a:xfrm>
              <a:off x="1909080" y="2899080"/>
              <a:ext cx="5897880" cy="183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0000"/>
                  </a:solidFill>
                  <a:latin typeface="Arial"/>
                </a:rPr>
                <a:t>                  </a:t>
              </a:r>
              <a:r>
                <a:rPr b="1" lang="pl-PL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r>
                <a:rPr b="1" lang="pl-PL" sz="2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pl-PL" sz="2000" spc="-1" strike="noStrike">
                  <a:solidFill>
                    <a:srgbClr val="003399"/>
                  </a:solidFill>
                  <a:latin typeface="Arial"/>
                </a:rPr>
                <a:t>,</a:t>
              </a:r>
              <a:r>
                <a:rPr b="1" lang="pl-PL" sz="20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pl-PL" sz="2000" spc="-1" strike="noStrike">
                  <a:solidFill>
                    <a:srgbClr val="0000ff"/>
                  </a:solidFill>
                  <a:latin typeface="Arial"/>
                </a:rPr>
                <a:t>3 </a:t>
              </a:r>
              <a:r>
                <a:rPr b="1" lang="pl-PL" sz="20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1" lang="pl-PL" sz="2000" spc="-1" strike="noStrike">
                  <a:solidFill>
                    <a:srgbClr val="ff9900"/>
                  </a:solidFill>
                  <a:latin typeface="Arial"/>
                </a:rPr>
                <a:t>4    </a:t>
              </a:r>
              <a:r>
                <a:rPr b="1" lang="pl-PL" sz="2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pl-PL" sz="2000" spc="-1" strike="noStrike">
                  <a:solidFill>
                    <a:srgbClr val="008000"/>
                  </a:solidFill>
                  <a:latin typeface="Arial"/>
                </a:rPr>
                <a:t>5     </a:t>
              </a:r>
              <a:r>
                <a:rPr b="1" lang="pl-PL" sz="2000" spc="-1" strike="noStrike">
                  <a:solidFill>
                    <a:srgbClr val="800080"/>
                  </a:solidFill>
                  <a:latin typeface="Arial"/>
                </a:rPr>
                <a:t>2</a:t>
              </a:r>
              <a:r>
                <a:rPr b="1" lang="pl-PL" sz="2000" spc="-1" strike="noStrike">
                  <a:solidFill>
                    <a:srgbClr val="008000"/>
                  </a:solidFill>
                  <a:latin typeface="Arial"/>
                </a:rPr>
                <a:t>    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ff0000"/>
                  </a:solidFill>
                  <a:latin typeface="Arial Narrow"/>
                </a:rPr>
                <a:t>jedno</a:t>
              </a:r>
              <a:r>
                <a:rPr b="1" lang="pl-PL" sz="1600" spc="-1" strike="noStrike">
                  <a:solidFill>
                    <a:srgbClr val="ff0000"/>
                  </a:solidFill>
                  <a:latin typeface="Arial Narrow"/>
                </a:rPr>
                <a:t>ś</a:t>
              </a:r>
              <a:r>
                <a:rPr b="1" lang="pl-PL" sz="1800" spc="-1" strike="noStrike">
                  <a:solidFill>
                    <a:srgbClr val="ff0000"/>
                  </a:solidFill>
                  <a:latin typeface="Arial Narrow"/>
                </a:rPr>
                <a:t>ci</a:t>
              </a:r>
              <a:r>
                <a:rPr b="1" lang="pl-PL" sz="1800" spc="-1" strike="noStrike">
                  <a:solidFill>
                    <a:srgbClr val="008000"/>
                  </a:solidFill>
                  <a:latin typeface="Arial Narrow"/>
                </a:rPr>
                <a:t>                         </a:t>
              </a:r>
              <a:r>
                <a:rPr b="1" lang="pl-PL" sz="1800" spc="-1" strike="noStrike">
                  <a:solidFill>
                    <a:srgbClr val="ff9900"/>
                  </a:solidFill>
                  <a:latin typeface="Arial Narrow"/>
                </a:rPr>
                <a:t>części</a:t>
              </a:r>
              <a:r>
                <a:rPr b="1" lang="pl-PL" sz="1800" spc="-1" strike="noStrike">
                  <a:solidFill>
                    <a:srgbClr val="008000"/>
                  </a:solidFill>
                  <a:latin typeface="Arial Narrow"/>
                </a:rPr>
                <a:t>                              </a:t>
              </a:r>
              <a:r>
                <a:rPr b="1" lang="pl-PL" sz="1800" spc="-1" strike="noStrike">
                  <a:solidFill>
                    <a:srgbClr val="800080"/>
                  </a:solidFill>
                  <a:latin typeface="Arial Narrow"/>
                </a:rPr>
                <a:t>częśc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8000"/>
                  </a:solidFill>
                  <a:latin typeface="Arial Narrow"/>
                </a:rPr>
                <a:t>                     </a:t>
              </a:r>
              <a:r>
                <a:rPr b="1" lang="pl-PL" sz="1800" spc="-1" strike="noStrike">
                  <a:solidFill>
                    <a:srgbClr val="000080"/>
                  </a:solidFill>
                  <a:latin typeface="Arial Narrow"/>
                </a:rPr>
                <a:t>części  </a:t>
              </a:r>
              <a:r>
                <a:rPr b="1" lang="pl-PL" sz="1800" spc="-1" strike="noStrike">
                  <a:solidFill>
                    <a:srgbClr val="0000ff"/>
                  </a:solidFill>
                  <a:latin typeface="Arial Narrow"/>
                </a:rPr>
                <a:t> </a:t>
              </a:r>
              <a:r>
                <a:rPr b="1" lang="pl-PL" sz="1800" spc="-1" strike="noStrike">
                  <a:solidFill>
                    <a:srgbClr val="008000"/>
                  </a:solidFill>
                  <a:latin typeface="Arial Narrow"/>
                </a:rPr>
                <a:t>    </a:t>
              </a:r>
              <a:r>
                <a:rPr b="1" lang="pl-PL" sz="1800" spc="-1" strike="noStrike">
                  <a:solidFill>
                    <a:srgbClr val="ff9900"/>
                  </a:solidFill>
                  <a:latin typeface="Arial Narrow"/>
                </a:rPr>
                <a:t>setne </a:t>
              </a:r>
              <a:r>
                <a:rPr b="1" lang="pl-PL" sz="1800" spc="-1" strike="noStrike">
                  <a:solidFill>
                    <a:srgbClr val="008000"/>
                  </a:solidFill>
                  <a:latin typeface="Arial Narrow"/>
                </a:rPr>
                <a:t>         części          </a:t>
              </a:r>
              <a:r>
                <a:rPr b="1" lang="pl-PL" sz="1800" spc="-1" strike="noStrike">
                  <a:solidFill>
                    <a:srgbClr val="800080"/>
                  </a:solidFill>
                  <a:latin typeface="Arial Narrow"/>
                </a:rPr>
                <a:t>10-tysięcz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8000"/>
                  </a:solidFill>
                  <a:latin typeface="Arial Narrow"/>
                </a:rPr>
                <a:t>                   </a:t>
              </a:r>
              <a:r>
                <a:rPr b="1" lang="pl-PL" sz="1800" spc="-1" strike="noStrike">
                  <a:solidFill>
                    <a:srgbClr val="000080"/>
                  </a:solidFill>
                  <a:latin typeface="Arial Narrow"/>
                </a:rPr>
                <a:t>dziesiąte </a:t>
              </a:r>
              <a:r>
                <a:rPr b="1" lang="pl-PL" sz="1800" spc="-1" strike="noStrike">
                  <a:solidFill>
                    <a:srgbClr val="008000"/>
                  </a:solidFill>
                  <a:latin typeface="Arial Narrow"/>
                </a:rPr>
                <a:t>                    tysięczne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8000"/>
                  </a:solidFill>
                  <a:latin typeface="Monotype Corsiva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2433240" y="3292200"/>
              <a:ext cx="655200" cy="39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3612600" y="3292200"/>
              <a:ext cx="262080" cy="52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4530240" y="3292200"/>
              <a:ext cx="0" cy="26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5054400" y="3292200"/>
              <a:ext cx="393120" cy="65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 flipV="1">
              <a:off x="5709960" y="3161160"/>
              <a:ext cx="917280" cy="39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Zaokrąglenie liczby  374,043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8153640" cy="4464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do części setnych :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374,04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3200" spc="-1" strike="noStrike">
                <a:solidFill>
                  <a:srgbClr val="33ccff"/>
                </a:solidFill>
                <a:latin typeface="Garamond"/>
              </a:rPr>
              <a:t>do części dziesiątych : </a:t>
            </a:r>
            <a:r>
              <a:rPr b="1" lang="en-US" sz="3200" spc="-1" strike="noStrike">
                <a:solidFill>
                  <a:srgbClr val="33cc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33ccff"/>
                </a:solidFill>
                <a:latin typeface="Garamond"/>
              </a:rPr>
              <a:t>374,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do jedności :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374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do dziesiątek :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70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do setek :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Zaokrąglenie liczby 174,976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224920" cy="4321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do części setnych :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      174,98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3200" spc="-1" strike="noStrike">
                <a:solidFill>
                  <a:srgbClr val="33ccff"/>
                </a:solidFill>
                <a:latin typeface="Garamond"/>
              </a:rPr>
              <a:t>do części dziesiątych :   17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do jedności :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175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o dziesiątek :                170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do setek :                        200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	</a:t>
            </a:r>
            <a:r>
              <a:rPr b="0" lang="en-US" sz="2500" spc="-1" strike="noStrike">
                <a:solidFill>
                  <a:srgbClr val="ff0066"/>
                </a:solidFill>
                <a:latin typeface="Garamond"/>
              </a:rPr>
              <a:t>	</a:t>
            </a:r>
            <a:r>
              <a:rPr b="0" lang="en-US" sz="2500" spc="-1" strike="noStrike">
                <a:solidFill>
                  <a:srgbClr val="ff0066"/>
                </a:solidFill>
                <a:latin typeface="Garamond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4480" y="469800"/>
            <a:ext cx="448452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ZACOWANIE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zacowanie to przybliżone określanie wartości jakiejś wielkości  przy stosowaniu uproszczonego modelu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 matematyce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oszacować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oznacza określić przybliżoną wartość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153640" cy="16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Szacowanie stosuje się w wielu naukach                i dziedzinach wiedzy.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9280" y="1341000"/>
            <a:ext cx="815364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ffff00"/>
                </a:solidFill>
                <a:latin typeface="Garamond"/>
              </a:rPr>
              <a:t>    </a:t>
            </a:r>
            <a:r>
              <a:rPr b="0" lang="pl-PL" sz="2800" spc="-1" strike="noStrike">
                <a:solidFill>
                  <a:srgbClr val="ffff00"/>
                </a:solidFill>
                <a:latin typeface="Garamond"/>
              </a:rPr>
              <a:t>Rolnictwo –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w rolnictwie szacuje się np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przewidywaną wielkość zbiorów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00"/>
                </a:solidFill>
                <a:latin typeface="Garamond"/>
              </a:rPr>
              <a:t>Handel –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w handlu szacowanie stosuje się głównie przy określaniu ceny zbywanego towaru, zwłaszcza gdy jest to towar używany,  np. cenę domu lub mieszkania na rynku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wtórnym szacuje się na podstawie cen podobnych mieszkań w danym rejonie miasta, popytu na te mieszkanie, atrakcyjności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jego położenia, itp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                   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2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Metrologia –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 metrologii szacuje się głównie niepewność pomiaru i wielkość błędów pomiarowych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łówny powód stosowania szacowania to fakt, że zwykle nie w pełni znane są wszystkie zjawiska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pływające na pomia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zykład – szacowanie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Garamond"/>
              </a:rPr>
              <a:t>Ile </a:t>
            </a:r>
            <a:r>
              <a:rPr b="1" lang="pl-PL" sz="3200" spc="-1" strike="noStrike">
                <a:solidFill>
                  <a:srgbClr val="ffffff"/>
                </a:solidFill>
                <a:latin typeface="Garamond"/>
              </a:rPr>
              <a:t>znaczków </a:t>
            </a:r>
            <a:r>
              <a:rPr b="1" lang="de-DE" sz="3200" spc="-1" strike="noStrike">
                <a:solidFill>
                  <a:srgbClr val="ffffff"/>
                </a:solidFill>
                <a:latin typeface="Garamond"/>
              </a:rPr>
              <a:t>po 10,50zł można kupić za 50 zł? </a:t>
            </a:r>
            <a:r>
              <a:rPr b="1" lang="pl-PL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Garamond"/>
              </a:rPr>
              <a:t> </a:t>
            </a:r>
            <a:r>
              <a:rPr b="1" lang="pl-PL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Garamond"/>
              </a:rPr>
              <a:t> </a:t>
            </a: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Odp: 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Z</a:t>
            </a: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a 50 zł moż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na</a:t>
            </a: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 kupić około 4 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znaczków</a:t>
            </a: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258920" y="3284640"/>
                <a:ext cx="176220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3635280" y="3284640"/>
                <a:ext cx="280836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zł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zł</m:t>
                    </m:r>
                    <m:r>
                      <m:t xml:space="preserve">≈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2" name="" descr="Stare znaczki pocztowe z ca&amp;lstrok;ego &amp;sacute;wiata Zdj&amp;eogon;cie Seryjne - 3286594"/>
          <p:cNvPicPr/>
          <p:nvPr/>
        </p:nvPicPr>
        <p:blipFill>
          <a:blip r:embed="rId1"/>
          <a:stretch/>
        </p:blipFill>
        <p:spPr>
          <a:xfrm>
            <a:off x="6659640" y="333360"/>
            <a:ext cx="2266920" cy="1700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EL GŁÓWN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Obliczanie wartości wyrażeń                              z uwzględnieniem kolejności działań              oraz ich zaokrąglanie i szacowanie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zykład – szacowanie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Garamond"/>
              </a:rPr>
              <a:t>Ile najwięcej czekolad po 3,99zł za sztukę można kupić za 20 zł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Odp: Za 20zł możemy kupić 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                                                </a:t>
            </a: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około 5 czekol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851280" y="3068640"/>
                <a:ext cx="250524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zł</m:t>
                    </m:r>
                    <m:r>
                      <m:t xml:space="preserve">÷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zł</m:t>
                    </m:r>
                    <m:r>
                      <m:t xml:space="preserve">≈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332000" y="3068640"/>
                <a:ext cx="151128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≈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589800" y="2852640"/>
            <a:ext cx="2128680" cy="318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zykład – szacowanie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ffff"/>
                </a:solidFill>
                <a:latin typeface="Garamond"/>
              </a:rPr>
              <a:t>    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de-DE" sz="3200" spc="-1" strike="noStrike">
                <a:solidFill>
                  <a:srgbClr val="ffffff"/>
                </a:solidFill>
                <a:latin typeface="Garamond"/>
              </a:rPr>
              <a:t>Pani Jola zaciągnęła kredyt w wysokości 2600zł.</a:t>
            </a:r>
            <a:r>
              <a:rPr b="1" lang="pl-PL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de-DE" sz="3200" spc="-1" strike="noStrike">
                <a:solidFill>
                  <a:srgbClr val="ffffff"/>
                </a:solidFill>
                <a:latin typeface="Garamond"/>
              </a:rPr>
              <a:t>Miesięczna rata wynosi 195zł.</a:t>
            </a:r>
            <a:r>
              <a:rPr b="1" lang="pl-PL" sz="3200" spc="-1" strike="noStrike">
                <a:solidFill>
                  <a:srgbClr val="ffffff"/>
                </a:solidFill>
                <a:latin typeface="Garamond"/>
              </a:rPr>
              <a:t> C</a:t>
            </a:r>
            <a:r>
              <a:rPr b="1" lang="de-DE" sz="3200" spc="-1" strike="noStrike">
                <a:solidFill>
                  <a:srgbClr val="ffffff"/>
                </a:solidFill>
                <a:latin typeface="Garamond"/>
              </a:rPr>
              <a:t>zy pani Jola spłaci</a:t>
            </a:r>
            <a:r>
              <a:rPr b="1" lang="pl-PL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de-DE" sz="3200" spc="-1" strike="noStrike">
                <a:solidFill>
                  <a:srgbClr val="ffffff"/>
                </a:solidFill>
                <a:latin typeface="Garamond"/>
              </a:rPr>
              <a:t>kredyt w ciągu 1 roku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 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Odp: 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W ciągu jednego roku p</a:t>
            </a:r>
            <a:r>
              <a:rPr b="0" lang="de-DE" sz="3200" spc="-1" strike="noStrike">
                <a:solidFill>
                  <a:srgbClr val="ffffff"/>
                </a:solidFill>
                <a:latin typeface="Garamond"/>
              </a:rPr>
              <a:t>ani Jola nie spłaci kredytu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18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332000" y="4005360"/>
                <a:ext cx="180000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5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3995640" y="4005360"/>
                <a:ext cx="36007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rPr>
                        <m:lit/>
                        <m:nor/>
                      </m:rPr>
                      <m:t xml:space="preserve">zł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00</m:t>
                    </m:r>
                    <m:r>
                      <m:rPr>
                        <m:lit/>
                        <m:nor/>
                      </m:rPr>
                      <m:t xml:space="preserve">zł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516720" y="333360"/>
            <a:ext cx="2448000" cy="153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zykład – szacowanie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szacuj, ile kilokalorii spalasz podczas jednej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ekcji w szkole, jeżeli nauka na siedząco                               w ciągu 1 godziny pochłania 108 kilokalorii.</a:t>
            </a:r>
            <a:r>
              <a:rPr b="0" lang="en-US" sz="25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aramond"/>
              </a:rPr>
              <a:t>Odp. Podczas 1 lekcji w szkole spalasz 81 kilokalorii.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0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755640" y="3429000"/>
                <a:ext cx="2160720" cy="12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  <m:r>
                          <m:rPr>
                            <m:lit/>
                            <m:nor/>
                          </m:rPr>
                          <m:t xml:space="preserve">kca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rPr>
                            <m:lit/>
                            <m:nor/>
                          </m:rPr>
                          <m:t xml:space="preserve">kca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kca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3132000" y="3716280"/>
                <a:ext cx="540072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rPr>
                        <m:lit/>
                        <m:nor/>
                      </m:rPr>
                      <m:t xml:space="preserve">kcal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rPr>
                        <m:lit/>
                        <m:nor/>
                      </m:rPr>
                      <m:t xml:space="preserve">kca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  <m:r>
                      <m:rPr>
                        <m:lit/>
                        <m:nor/>
                      </m:rPr>
                      <m:t xml:space="preserve">kcal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236000" y="4437000"/>
            <a:ext cx="175860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zykła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98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zy 35zł wystarczy na zakup: 2kg bananów,  3 porcji frytek, 2 soków i 2 bułek z parówką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zacujemy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403280" y="2997360"/>
            <a:ext cx="2324160" cy="19443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4067280" y="2997360"/>
            <a:ext cx="3889440" cy="197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zacujemy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anany: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ok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rytki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łka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dp. 35zł wystarczy na takie zakup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2700360" y="1628640"/>
                <a:ext cx="165564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zł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z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0" y="32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700360" y="2852640"/>
                <a:ext cx="172728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zł</m:t>
                    </m:r>
                    <m:r>
                      <m:t xml:space="preserve">≈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z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2124000" y="3429000"/>
                <a:ext cx="15843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zł</m:t>
                    </m:r>
                    <m:r>
                      <m:t xml:space="preserve">≈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z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>
            <a:off x="-46836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2124000" y="2205000"/>
                <a:ext cx="17287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zł</m:t>
                    </m:r>
                    <m:r>
                      <m:t xml:space="preserve">≈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z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1763640" y="4364640"/>
            <a:ext cx="316872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ZEM: 10+5+9+7=31z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          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51280" y="1989000"/>
            <a:ext cx="22334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ONIE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                        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"/>
          <p:cNvSpPr/>
          <p:nvPr/>
        </p:nvSpPr>
        <p:spPr>
          <a:xfrm>
            <a:off x="5508720" y="3716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87280" y="836640"/>
            <a:ext cx="6624720" cy="478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          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196640"/>
            <a:ext cx="81532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rto zwrócić uwagę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że iloczyn nie ma pierwszeństwa przed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lorazem, ani suma przed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óżnicą - że decyduje tutaj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yłącznie kolejność ich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ystępowania w wyrażeniu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219640" y="2924280"/>
            <a:ext cx="3708360" cy="32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zykła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2" name="Obraz 32" descr="http://t0.gstatic.com/images?q=tbn:ANd9GcSgrHVihyoxk4BIVbWYnWFxH8iHI2Q6cvrSCw3HfmeBtekaKEQ"/>
          <p:cNvPicPr/>
          <p:nvPr/>
        </p:nvPicPr>
        <p:blipFill>
          <a:blip r:embed="rId1"/>
          <a:stretch/>
        </p:blipFill>
        <p:spPr>
          <a:xfrm>
            <a:off x="1116000" y="1844640"/>
            <a:ext cx="6915240" cy="419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zykład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094360" cy="292428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ffffff"/>
                </a:solidFill>
                <a:uFillTx/>
                <a:latin typeface="Garamond"/>
              </a:rPr>
              <a:t>72 : 8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 + 1 = 9 + 1 = 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72 : (</a:t>
            </a:r>
            <a:r>
              <a:rPr b="0" lang="pl-PL" sz="3200" spc="-1" strike="noStrike" u="sng">
                <a:solidFill>
                  <a:srgbClr val="ffffff"/>
                </a:solidFill>
                <a:uFillTx/>
                <a:latin typeface="Garamond"/>
              </a:rPr>
              <a:t>8 + 1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) = 72 : 9 = 8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50 - </a:t>
            </a:r>
            <a:r>
              <a:rPr b="0" lang="pl-PL" sz="3200" spc="-1" strike="noStrike" u="sng">
                <a:solidFill>
                  <a:srgbClr val="ffffff"/>
                </a:solidFill>
                <a:uFillTx/>
                <a:latin typeface="Garamond"/>
              </a:rPr>
              <a:t>5 · 5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 = 50 - 25 = 2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ffffff"/>
                </a:solidFill>
                <a:uFillTx/>
                <a:latin typeface="Garamond"/>
              </a:rPr>
              <a:t>48 : 8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 · 2 = 6 · 2 = 1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zykład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        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755640" y="1989000"/>
                <a:ext cx="5329080" cy="299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,7</m:t>
                        </m:r>
                        <m:r>
                          <m:t xml:space="preserve">−</m:t>
                        </m:r>
                        <m:r>
                          <m:t xml:space="preserve">2,3</m:t>
                        </m:r>
                        <m:r>
                          <m:t xml:space="preserve">+</m:t>
                        </m:r>
                        <m:r>
                          <m:t xml:space="preserve">1,5</m:t>
                        </m:r>
                        <m:r>
                          <m:t xml:space="preserve">=</m:t>
                        </m:r>
                        <m:r>
                          <m:t xml:space="preserve">2,4</m:t>
                        </m:r>
                        <m:r>
                          <m:t xml:space="preserve">+</m:t>
                        </m:r>
                        <m:r>
                          <m:t xml:space="preserve">1,5</m:t>
                        </m:r>
                        <m:r>
                          <m:t xml:space="preserve">=</m:t>
                        </m:r>
                        <m:r>
                          <m:t xml:space="preserve">3,9</m:t>
                        </m:r>
                      </m:e>
                      <m:e/>
                      <m:e>
                        <m:f>
                          <m:num>
                            <m:r>
                              <m:t xml:space="preserve">2,1</m:t>
                            </m:r>
                            <m:r>
                              <m:t xml:space="preserve">−</m:t>
                            </m:r>
                            <m:r>
                              <m:t xml:space="preserve">0,3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num>
                          <m:den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,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  <m:r>
                              <m:t xml:space="preserve">,</m:t>
                            </m:r>
                            <m:r>
                              <m:t xml:space="preserve">9</m:t>
                            </m:r>
                          </m:num>
                          <m:den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</m:e>
                      <m:e/>
                      <m:e>
                        <m:r>
                          <m:t xml:space="preserve">4,6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,1</m:t>
                        </m:r>
                        <m:r>
                          <m:t xml:space="preserve">−</m:t>
                        </m:r>
                        <m:r>
                          <m:t xml:space="preserve">0,1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4,6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4,6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,</m:t>
                        </m:r>
                        <m:r>
                          <m:t xml:space="preserve">6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Zaokrąglanie w matematyce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15364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zybliżanie pewnej liczby do innej, mającej mniej cyfr znaczących.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aokrąglanie polega na: odrzuceniu lub zastąpieniu zerami pewnej ilości cyfr końcowych danej liczby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bo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większeniu ostatniej z pozostałych cyfr                   o jeden, jeśli kolejna cyfra liczby pierwotnej była większa lub równa 5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zykła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ptop, który dzisiaj widziałam w sklepie, kosztuje dokładnie 1899 zł., czyli około 1900 zł. Po zaokrągleniu otrzymujemy cenę mniej dokładną, ale łatwiejszą do zapamiętania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" descr="Plik:Liczby laptop.JPG"/>
          <p:cNvPicPr/>
          <p:nvPr/>
        </p:nvPicPr>
        <p:blipFill>
          <a:blip r:embed="rId1"/>
          <a:stretch/>
        </p:blipFill>
        <p:spPr>
          <a:xfrm>
            <a:off x="5724360" y="3068640"/>
            <a:ext cx="3221280" cy="325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0T20:45:54Z</dcterms:created>
  <dc:creator>Matematyka</dc:creator>
  <dc:description/>
  <dc:language>en-US</dc:language>
  <cp:lastModifiedBy>Matematyka</cp:lastModifiedBy>
  <dcterms:modified xsi:type="dcterms:W3CDTF">2013-05-03T20:38:46Z</dcterms:modified>
  <cp:revision>90</cp:revision>
  <dc:subject/>
  <dc:title>Slajd 1</dc:title>
</cp:coreProperties>
</file>